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F597-05F2-48F3-AC31-2F47BD251D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ycl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day of full moon, high tides occur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noon and 6 p.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noon and midn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6 a.m. and 6 p.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6 p.m. and midn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ssible to tell. The times of tides are not correlated with the phases of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day of full moon, high tides occu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noon and 6 p.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noon and mid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6 a.m. and 6 p.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6 p.m. and mid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ssible to tell. The times of tides are not correlated with the phases of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 and Neap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also producing tidal effects, about half as strong as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Full and New Moon, those two effects add up to cause spring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first and third quarter, the two effects work at a right angle w.r.t. each other, causing neap t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p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and Neap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is also producing tidal effects, about half as strong as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Full and New Moon, those two effects add up to cause spring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first and third quarter, the two effects work at a right angle w.r.t. each other, causing neap 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p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dally Locked Orbit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th also exerts tidal forces on the Moon’s rocky inter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otating with the same period around its axis as it is orbiting Earth (tidally locke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ways see the same side of the moon facing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dally Locked Orbit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 also exerts tidal forces on the Moon’s rocky int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rotating with the same period around its axis as it is orbiting Earth (tidally locke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ways see the same side of the moon facing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ar Side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ar Side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otal lunar eclips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high-performance moon vehicle built by Mitsubish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when the moon disappears behind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when the moon becomes invisible because it is too close to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when the moon moves through Earth’s sha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when the moon disappears behind M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tal lunar eclips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high-performance moon vehicle built by Mitsubish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moon disappears behi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moon becomes invisible because it is too close to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moon moves through Earth’s sha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moon disappears behind M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th’s shadow consists of a zone of full shadow, the Umbra, and a zone of partial shadow, the Penumb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Moon passes through the Umbra, we see a lun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entire surface of the Moon enters  the Umbra, the lunar eclipse is to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shadow consists of a zone of full shadow, the Umbra, and a zone of partial shadow, the Penumb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Moon passes through the Umbra, we see a lun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ntire surface of the Moon enters  the Umbra, the lunar eclipse is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Total Lunar Eclipse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Total Lunar Eclipse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otal Lunar Eclips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otal lunar eclipse can last up to 1 hour and 40 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a total eclipse, the moon has a faint, red glow, reflecting sun light scattered in the Earth’s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tal Lunar Eclips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tal lunar eclipse can last up to 1 hour and 40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 total eclipse, the moon has a faint, red glow, reflecting sun light scattered in the Earth’s atm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ly, 1 or 2 lunar eclipses per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, 1 or 2 lunar eclipses per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approx. the same angular diameter of ~ 0.50 as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us, when the Moon passes in front of the Sun, it can cover it completely, causing a total sol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has approx. the same angular diameter of ~ 0.50 as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when the Moon passes in front of the Sun, it can cover it completely, causing a total sol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Earth, we see different portions of the Moon’s surface lit by the sun, causing the phases of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arth, we see different portions of the Moon’s surface lit by the sun, causing the phases of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and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phere and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ond Ring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 Ring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un and the moon have the same angular diameter on the sky, does that  mean that the sun and the moon actually have about the same siz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ecause the sun is much farther away, but also much larger tha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because the sun is much farther away, but also much smaller tha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ecause the moon is much farther away, but also much larger than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because the moon is  much farther away, but also much smaller than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un and the moon have the same angular diameter on the sky, does that  mean that the sun and the moon actually have about the same siz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ecause the sun is much farther away, but also much larger than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ecause the sun is much farther away, but also much smaller than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ecause the moon is much farther away, but also much larger than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ecause the moon is  much farther away, but also much smaller than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and Moon’s orbits are slightly elliptica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ccentricities greatly exaggerated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helion = position closest 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helion = position furthest away from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gee = position closest to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gee = position furthest away from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and Moon’s orbits are slightly elliptic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ccentricities greatly exaggerat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helion = position closest to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elion = position furthest away from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gee = position closest 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gee = position furthest away from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expect to see if at the time of a solar eclipse the moon is near apogee, and the Earth is near perihel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gular total sol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olar eclipse at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ial solar eclipse with a crescent appear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ial solar eclipse with a ring-like appearance of un-occulted part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un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expect to see if at the time of a solar eclipse the moon is near apogee, and the Earth is near perihel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 total sol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olar eclipse at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rtial solar eclipse with a crescent appea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rtial solar eclipse with a ring-like appearance of un-occulted parts of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un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ular 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gular sizes of the Moon and the Sun vary, depending on their distance from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Earth is near perihelion, and the Moon is near apogee, we see an annular sol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g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g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he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he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ar 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sizes of the Moon and the Sun vary, depending on their distance from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Earth is near perihelion, and the Moon is near apogee, we see an annular sol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g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g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he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e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most total, annular eclipse of May 30, 19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total, annular eclipse of May 30, 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moon was orbiting around the Earth exactly in the plane of the ecliptic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occur once ever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occur once a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occur once a mon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occur once a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never occ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moon was orbiting around the Earth exactly in the plane of the ecliptic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occur once ever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occur once a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occur once a mon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occur once a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never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Eclipses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’s orbit is inclined against the ecliptic by ~ 5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lar eclipse can only occur if the Moon passes a node near New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unar eclipse can only occur if the Moon passes a node near Full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for Eclipses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orbit is inclined against the ecliptic by ~ 5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lar eclipse can only occur if the Moon passes a node near New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unar eclipse can only occur if the Moon passes a node near Full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orbits Earth in a sidereal period of 27.32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.32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xed direction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Earth in a sidereal period of 27.32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.32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direction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Eclipses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lipses occur in a cyclic patte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os cycle: 18 years, 11 days, 8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for Eclipses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lipses occur in a cyclic patte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os cycle: 18 years, 11 days, 8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ely 1 total solar eclipse per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 total solar eclipse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moon going to show the same lunar phase after one sidereal peri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it will not have completed a full cycle of ph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it will have completed more than a full cycle of ph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moon going to show the same lunar phase after one sidereal peri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it will not have completed a full cycle of ph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it will have completed more than a full cycle of ph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’s synodic period (to reach the same position relative to the sun) is 29.53 days (~ 1 mont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xed direction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orbits around Sun =&gt; Direction toward Sun chang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.53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synodic period (to reach the same position relative to the sun) is 29.53 days (~ 1 mon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direction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orbits around Sun =&gt; Direction toward Sun chang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.53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orbits counterclockwise around Earth (viewed from the North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It appears to move eastward against the background of the star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The waxing crescent is 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morning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evening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ole night, from sunset to sunri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around midn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counterclockwise around Earth (viewed from the North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It appears to move eastward against the background of the star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The waxing crescent is 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rning s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vening s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night, from sunset to sunri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round mid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oon → First Quarter → 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ing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oon → First Quarter → Full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ing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Moon → Third Quarter → New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ning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Moon → Third Quarter → New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des are caused by the difference of the Moon’s gravitational attraction on the water o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near side and the center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enter and the far side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tidal maxi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-hou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des are caused by the difference of the Moon’s gravitational attraction on the water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near side and the center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center and the far side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idal max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hou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E86-D09E-47CE-B5AA-B98785C5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EB02-9671-4EFF-B83C-CE1CD5E7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B68D-B671-46E4-A7D8-C1957E0A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4B54-4003-453B-B111-9482650D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390F-7F99-4EFF-AF30-A91DC6E4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0BE6-B185-40C7-B92D-42EA60DA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A031-29EC-428A-8712-9B1C4A2B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F078-16B1-405D-9C26-21146F60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7011-6641-49AF-8781-99C9013A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BFC4-23C2-4899-9A11-3D9369B5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4FD-97EB-4537-B082-20B5F728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EC4A-290A-41E6-ADD0-A4586A31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A6D5-1898-4089-A4AC-AA91012CB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file:///total_solar_eclipse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gibbousmo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228600" y="4572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The Cycles of the Mo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447920" y="2270160"/>
            <a:ext cx="61722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The phases of 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The t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unar eclip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Solar eclip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n the day of full moon, high tides occur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29714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ound noon and 6 p.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ound noon and mid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ound 6 a.m. and 6 p.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ound 6 p.m. and mid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mpossible to tell. The times of tides are not correlated with the phases of the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pring and Neap T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791320" y="1295280"/>
            <a:ext cx="312408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The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Su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is also producing tidal effects, about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half as strong as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the Mo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e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Full and New Moon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, those two effects add up to cau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spring t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ear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first and third quarter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, the two effects work at a right angle w.r.t. each other, caus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neap tid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03a"/>
          <p:cNvPicPr/>
          <p:nvPr/>
        </p:nvPicPr>
        <p:blipFill>
          <a:blip r:embed="rId1"/>
          <a:stretch/>
        </p:blipFill>
        <p:spPr>
          <a:xfrm>
            <a:off x="228600" y="1219320"/>
            <a:ext cx="5334120" cy="1438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03b"/>
          <p:cNvPicPr/>
          <p:nvPr/>
        </p:nvPicPr>
        <p:blipFill>
          <a:blip r:embed="rId2"/>
          <a:stretch/>
        </p:blipFill>
        <p:spPr>
          <a:xfrm>
            <a:off x="228600" y="2895480"/>
            <a:ext cx="5257800" cy="3399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3886200" y="2209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pring 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657600" y="5562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eap 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The Tidally Locked Orbit of 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a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exert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idal fo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e Moon’s rock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ri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otating with the same peri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ound its ax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s it is orbiting Ea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dally lock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e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ame side of the moon facing Ea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SeedsmoonTA022"/>
          <p:cNvPicPr/>
          <p:nvPr/>
        </p:nvPicPr>
        <p:blipFill>
          <a:blip r:embed="rId1"/>
          <a:stretch/>
        </p:blipFill>
        <p:spPr>
          <a:xfrm>
            <a:off x="4587840" y="1066680"/>
            <a:ext cx="4403880" cy="5715000"/>
          </a:xfrm>
          <a:prstGeom prst="rect">
            <a:avLst/>
          </a:prstGeom>
          <a:ln w="0">
            <a:noFill/>
          </a:ln>
        </p:spPr>
      </p:pic>
      <p:sp>
        <p:nvSpPr>
          <p:cNvPr id="137" name="Oval 5"/>
          <p:cNvSpPr/>
          <p:nvPr/>
        </p:nvSpPr>
        <p:spPr>
          <a:xfrm>
            <a:off x="5562720" y="3048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5029200" y="42670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5486400" y="5486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6781680" y="59436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7924680" y="5410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0"/>
          <p:cNvSpPr/>
          <p:nvPr/>
        </p:nvSpPr>
        <p:spPr>
          <a:xfrm>
            <a:off x="8381880" y="4267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1"/>
          <p:cNvSpPr/>
          <p:nvPr/>
        </p:nvSpPr>
        <p:spPr>
          <a:xfrm>
            <a:off x="7924680" y="3124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2"/>
          <p:cNvSpPr/>
          <p:nvPr/>
        </p:nvSpPr>
        <p:spPr>
          <a:xfrm>
            <a:off x="6781680" y="25909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ижний колонтитул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7" descr="01"/>
          <p:cNvPicPr/>
          <p:nvPr/>
        </p:nvPicPr>
        <p:blipFill>
          <a:blip r:embed="rId1"/>
          <a:stretch/>
        </p:blipFill>
        <p:spPr>
          <a:xfrm>
            <a:off x="1398600" y="-304920"/>
            <a:ext cx="6373800" cy="8001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609480" y="10620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The Near Side of 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total lunar eclips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91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 a high-performance moon vehicle built by Mitsubish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curs when the moon disappears behind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curs when the moon becomes invisible because it is too close to the su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curs when the moon moves through Earth’s shad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curs when the moon disappears behind M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4952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un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06"/>
          <p:cNvPicPr/>
          <p:nvPr/>
        </p:nvPicPr>
        <p:blipFill>
          <a:blip r:embed="rId1"/>
          <a:stretch/>
        </p:blipFill>
        <p:spPr>
          <a:xfrm>
            <a:off x="0" y="1481040"/>
            <a:ext cx="5791320" cy="4533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6095880" y="739800"/>
            <a:ext cx="289584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The Earth’s shadow consists of a zone o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full shadow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the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Umbra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and a zone o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partial shadow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the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Penumbr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If the Moon passes through th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Umbra,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 we see 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lunar eclips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If the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entire surface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 of the Moon enters  the Umbra, the lunar eclipse is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tot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 Total Lunar Eclipse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07"/>
          <p:cNvPicPr/>
          <p:nvPr/>
        </p:nvPicPr>
        <p:blipFill>
          <a:blip r:embed="rId1"/>
          <a:stretch/>
        </p:blipFill>
        <p:spPr>
          <a:xfrm>
            <a:off x="838080" y="1828800"/>
            <a:ext cx="7950240" cy="45259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7"/>
          <p:cNvSpPr/>
          <p:nvPr/>
        </p:nvSpPr>
        <p:spPr>
          <a:xfrm>
            <a:off x="457200" y="5410080"/>
            <a:ext cx="5562720" cy="12956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 Total Lunar Eclips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08"/>
          <p:cNvPicPr/>
          <p:nvPr/>
        </p:nvPicPr>
        <p:blipFill>
          <a:blip r:embed="rId1"/>
          <a:stretch/>
        </p:blipFill>
        <p:spPr>
          <a:xfrm>
            <a:off x="304920" y="1341360"/>
            <a:ext cx="4678200" cy="46785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5486400" y="1295280"/>
            <a:ext cx="350532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 total lunar eclipse can last up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1 hour and 40 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uring a total eclipse, the moon has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faint, red glow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eflec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sun light scattered in the Earth’s atmo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table 01"/>
          <p:cNvPicPr/>
          <p:nvPr/>
        </p:nvPicPr>
        <p:blipFill>
          <a:blip r:embed="rId1"/>
          <a:stretch/>
        </p:blipFill>
        <p:spPr>
          <a:xfrm>
            <a:off x="228600" y="76320"/>
            <a:ext cx="5646600" cy="6705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6705720" y="2438280"/>
            <a:ext cx="1904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ypically, 1 or 2 lunar eclipses per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28600" y="3352680"/>
            <a:ext cx="563868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ol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10"/>
          <p:cNvPicPr/>
          <p:nvPr/>
        </p:nvPicPr>
        <p:blipFill>
          <a:blip r:embed="rId1"/>
          <a:stretch/>
        </p:blipFill>
        <p:spPr>
          <a:xfrm>
            <a:off x="914400" y="852480"/>
            <a:ext cx="7620120" cy="37958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457200" y="4724280"/>
            <a:ext cx="8610480" cy="19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The Sun has approx. the sa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angular diameter of ~ 0.5</a:t>
            </a:r>
            <a:r>
              <a:rPr b="1" lang="en-US" sz="2800" spc="-1" strike="noStrike" baseline="30000">
                <a:solidFill>
                  <a:srgbClr val="ff5050"/>
                </a:solidFill>
                <a:latin typeface="Arial"/>
                <a:ea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as the Mo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Thus, when the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Moon passes in front of the Sun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, it can cover it completely, causing a tot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solar eclips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Phases of the Mo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762120" y="1828800"/>
            <a:ext cx="2819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om Earth, we se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different portions of the Moon’s surface lit by the s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causing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hases of the Mo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eedsmoonTA023"/>
          <p:cNvPicPr/>
          <p:nvPr/>
        </p:nvPicPr>
        <p:blipFill>
          <a:blip r:embed="rId1"/>
          <a:stretch/>
        </p:blipFill>
        <p:spPr>
          <a:xfrm>
            <a:off x="4089240" y="1143000"/>
            <a:ext cx="494532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12"/>
          <p:cNvPicPr/>
          <p:nvPr/>
        </p:nvPicPr>
        <p:blipFill>
          <a:blip r:embed="rId1"/>
          <a:stretch/>
        </p:blipFill>
        <p:spPr>
          <a:xfrm>
            <a:off x="304920" y="-1981080"/>
            <a:ext cx="3670200" cy="8839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13a"/>
          <p:cNvPicPr/>
          <p:nvPr/>
        </p:nvPicPr>
        <p:blipFill>
          <a:blip r:embed="rId2"/>
          <a:stretch/>
        </p:blipFill>
        <p:spPr>
          <a:xfrm>
            <a:off x="4038480" y="1143000"/>
            <a:ext cx="4943520" cy="54864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9"/>
          <p:cNvSpPr/>
          <p:nvPr/>
        </p:nvSpPr>
        <p:spPr>
          <a:xfrm>
            <a:off x="464832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Total Solar Ecli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5943600" y="59436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romin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4952880" y="18288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hromosphere and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"/>
          <p:cNvSpPr/>
          <p:nvPr/>
        </p:nvSpPr>
        <p:spPr>
          <a:xfrm flipH="1">
            <a:off x="5638320" y="2286000"/>
            <a:ext cx="381240" cy="838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4"/>
          <p:cNvSpPr/>
          <p:nvPr/>
        </p:nvSpPr>
        <p:spPr>
          <a:xfrm flipH="1" flipV="1">
            <a:off x="5409720" y="4191120"/>
            <a:ext cx="762120" cy="17524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7"/>
          <p:cNvSpPr/>
          <p:nvPr/>
        </p:nvSpPr>
        <p:spPr>
          <a:xfrm flipV="1">
            <a:off x="7391520" y="3885840"/>
            <a:ext cx="380880" cy="2057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prominence_11jul91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9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diamondring_11jul91"/>
          <p:cNvPicPr/>
          <p:nvPr/>
        </p:nvPicPr>
        <p:blipFill>
          <a:blip r:embed="rId1"/>
          <a:stretch/>
        </p:blipFill>
        <p:spPr>
          <a:xfrm>
            <a:off x="914400" y="152280"/>
            <a:ext cx="7569360" cy="56772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2666880" y="586728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Diamond Ring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the sun and the moon have the same angular diameter on the sky, does that  mean that the sun and the moon actually have about the same siz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274320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because the sun is much farther away, but also much larger than the m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, because the sun is much farther away, but also much smaller than the m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because the moon is much farther away, but also much larger than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, because the moon is  much farther away, but also much smaller than the su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Earth’s and Moon’s orbits are slightly elliptica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1143000" y="1676520"/>
            <a:ext cx="6477120" cy="48765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"/>
          <p:cNvSpPr/>
          <p:nvPr/>
        </p:nvSpPr>
        <p:spPr>
          <a:xfrm>
            <a:off x="2514600" y="3733920"/>
            <a:ext cx="60948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7238880" y="304812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6934320" y="2895480"/>
            <a:ext cx="13716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8153280" y="32767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592720" y="43434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869080" y="25909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7924680" y="3429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985040" y="5029200"/>
            <a:ext cx="50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Eccentricities greatly exaggerated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2209680" y="26668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Perihel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= position closest to the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7696080" y="4937040"/>
            <a:ext cx="1371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Aphel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= position furthest away from the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 flipH="1">
            <a:off x="1218960" y="3048120"/>
            <a:ext cx="1066680" cy="838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7"/>
          <p:cNvSpPr/>
          <p:nvPr/>
        </p:nvSpPr>
        <p:spPr>
          <a:xfrm flipH="1" flipV="1">
            <a:off x="7619760" y="4267080"/>
            <a:ext cx="685800" cy="6098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5029200" y="37339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erige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= position closest to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9"/>
          <p:cNvSpPr/>
          <p:nvPr/>
        </p:nvSpPr>
        <p:spPr>
          <a:xfrm flipV="1">
            <a:off x="6095880" y="3276720"/>
            <a:ext cx="7621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6858000" y="158436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Apoge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= position furthest away from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1"/>
          <p:cNvSpPr/>
          <p:nvPr/>
        </p:nvSpPr>
        <p:spPr>
          <a:xfrm>
            <a:off x="8229600" y="2362320"/>
            <a:ext cx="763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Нижний колонтитул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o you expect to see if at the time of a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solar eclips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moon is nea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apoge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the Earth is nea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perihel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32004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regular total solar eclip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solar eclips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partial solar eclipse with a crescent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partial solar eclipse with a ring-like appearance of un-occulted parts of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lunar eclip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Annular Sol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15"/>
          <p:cNvPicPr/>
          <p:nvPr/>
        </p:nvPicPr>
        <p:blipFill>
          <a:blip r:embed="rId1"/>
          <a:stretch/>
        </p:blipFill>
        <p:spPr>
          <a:xfrm>
            <a:off x="380880" y="838080"/>
            <a:ext cx="5867640" cy="321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14a"/>
          <p:cNvPicPr/>
          <p:nvPr/>
        </p:nvPicPr>
        <p:blipFill>
          <a:blip r:embed="rId2"/>
          <a:stretch/>
        </p:blipFill>
        <p:spPr>
          <a:xfrm>
            <a:off x="1905120" y="4114800"/>
            <a:ext cx="2678040" cy="27432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8"/>
          <p:cNvSpPr/>
          <p:nvPr/>
        </p:nvSpPr>
        <p:spPr>
          <a:xfrm>
            <a:off x="6400800" y="914400"/>
            <a:ext cx="2743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angular sizes of the Moon and the Sun va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depending on their distance from Ear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4724280" y="48481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a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ear perihe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Mo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ear apog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e see a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nnular solar eclip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457200" y="3276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Perig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2133720" y="3352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Apog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3352680" y="3429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Perihe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4952880" y="3352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Aphe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total_annular_30may84"/>
          <p:cNvPicPr/>
          <p:nvPr/>
        </p:nvPicPr>
        <p:blipFill>
          <a:blip r:embed="rId1"/>
          <a:stretch/>
        </p:blipFill>
        <p:spPr>
          <a:xfrm>
            <a:off x="762120" y="171360"/>
            <a:ext cx="7645320" cy="57340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609480" y="57913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lmost total, annular eclipse of May 30, 19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f the moon was orbiting around the Earth exactly in the plane of the ecliptic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3124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occur once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occur once a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occur once a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occur once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never occ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Conditions for Eclipses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16a"/>
          <p:cNvPicPr/>
          <p:nvPr/>
        </p:nvPicPr>
        <p:blipFill>
          <a:blip r:embed="rId1"/>
          <a:stretch/>
        </p:blipFill>
        <p:spPr>
          <a:xfrm>
            <a:off x="380880" y="1066680"/>
            <a:ext cx="4038840" cy="4017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16b"/>
          <p:cNvPicPr/>
          <p:nvPr/>
        </p:nvPicPr>
        <p:blipFill>
          <a:blip r:embed="rId2"/>
          <a:stretch/>
        </p:blipFill>
        <p:spPr>
          <a:xfrm>
            <a:off x="4724280" y="1066680"/>
            <a:ext cx="4038840" cy="40179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8"/>
          <p:cNvSpPr/>
          <p:nvPr/>
        </p:nvSpPr>
        <p:spPr>
          <a:xfrm>
            <a:off x="228600" y="5257800"/>
            <a:ext cx="8686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Moon’s orb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inclined against the ecliptic by ~ 5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solar eclip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n only occur if the Moon passes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ea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New Mo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lunar eclip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n only occur if the Moon passes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ea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Full Mo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0"/>
          <p:cNvSpPr/>
          <p:nvPr/>
        </p:nvSpPr>
        <p:spPr>
          <a:xfrm>
            <a:off x="1143000" y="1371600"/>
            <a:ext cx="60948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1"/>
          <p:cNvSpPr/>
          <p:nvPr/>
        </p:nvSpPr>
        <p:spPr>
          <a:xfrm>
            <a:off x="7391520" y="1981080"/>
            <a:ext cx="60948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446120"/>
            <a:ext cx="39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Moon orbits Earth in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idereal peri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27.32 d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"/>
          <p:cNvSpPr/>
          <p:nvPr/>
        </p:nvSpPr>
        <p:spPr>
          <a:xfrm>
            <a:off x="7162920" y="1600200"/>
            <a:ext cx="38088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/>
          <p:cNvSpPr/>
          <p:nvPr/>
        </p:nvSpPr>
        <p:spPr>
          <a:xfrm>
            <a:off x="6324480" y="838080"/>
            <a:ext cx="2133720" cy="1981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6400800" y="2209680"/>
            <a:ext cx="76320" cy="763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6248520" y="2057400"/>
            <a:ext cx="1522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6400800" y="198108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5714640" y="1828800"/>
            <a:ext cx="1600200" cy="762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629400" y="1143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27.32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7086600" y="1981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55627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5181480" y="2819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Fixed direction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5943600" y="2438280"/>
            <a:ext cx="15228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5" descr="seedsmoon028"/>
          <p:cNvPicPr/>
          <p:nvPr/>
        </p:nvPicPr>
        <p:blipFill>
          <a:blip r:embed="rId1"/>
          <a:stretch/>
        </p:blipFill>
        <p:spPr>
          <a:xfrm>
            <a:off x="1447920" y="3429000"/>
            <a:ext cx="5790960" cy="5164200"/>
          </a:xfrm>
          <a:prstGeom prst="rect">
            <a:avLst/>
          </a:prstGeom>
          <a:ln w="0">
            <a:noFill/>
          </a:ln>
        </p:spPr>
      </p:pic>
      <p:sp>
        <p:nvSpPr>
          <p:cNvPr id="72" name="Line 16"/>
          <p:cNvSpPr/>
          <p:nvPr/>
        </p:nvSpPr>
        <p:spPr>
          <a:xfrm>
            <a:off x="6248520" y="411480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ижний колонтитул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139 C 0.02569 0.07329 0.09097 0.10243 0.15069 0.07006 C 0.20729 0.03237 0.23385 -0.05665 0.20902 -0.12902 C 0.18437 -0.20069 0.11684 -0.22497 0.05868 -0.19075 C 0.00121 -0.15538 -0.02448 -0.07006 0.00052 0.00139 Z">
                                      <p:cBhvr>
                                        <p:cTn id="28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Conditions for Eclipse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17"/>
          <p:cNvPicPr/>
          <p:nvPr/>
        </p:nvPicPr>
        <p:blipFill>
          <a:blip r:embed="rId1"/>
          <a:stretch/>
        </p:blipFill>
        <p:spPr>
          <a:xfrm>
            <a:off x="609480" y="1143000"/>
            <a:ext cx="8001000" cy="445284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990720" y="5638680"/>
            <a:ext cx="7391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lipses occur in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yclic patte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aros cyc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18 years, 11 days, 8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table 02"/>
          <p:cNvPicPr/>
          <p:nvPr/>
        </p:nvPicPr>
        <p:blipFill>
          <a:blip r:embed="rId1"/>
          <a:stretch/>
        </p:blipFill>
        <p:spPr>
          <a:xfrm>
            <a:off x="76320" y="152280"/>
            <a:ext cx="8991360" cy="59119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914400" y="6172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pproximately 1 total solar eclipse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s the moon going to show the same lunar phase after one sidereal peri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66320" y="3123720"/>
            <a:ext cx="72392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it will not have completed a full cycle of ph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it will have completed more than a full cycle of ph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105520" y="4343400"/>
            <a:ext cx="396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moon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ynodic peri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to reach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ame position relative to the s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29.53 days (~ 1 mont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743200" y="12193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Fixed direction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4800600" y="1600200"/>
            <a:ext cx="129528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6"/>
          <p:cNvSpPr/>
          <p:nvPr/>
        </p:nvSpPr>
        <p:spPr>
          <a:xfrm>
            <a:off x="7315200" y="1828800"/>
            <a:ext cx="38088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7696080" y="1981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8"/>
          <p:cNvSpPr/>
          <p:nvPr/>
        </p:nvSpPr>
        <p:spPr>
          <a:xfrm>
            <a:off x="6477120" y="1066680"/>
            <a:ext cx="2133360" cy="1981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 flipH="1">
            <a:off x="5866920" y="2057400"/>
            <a:ext cx="1600200" cy="762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934320" y="2514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 flipH="1">
            <a:off x="6324120" y="2057400"/>
            <a:ext cx="1143000" cy="12193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6553080" y="2438280"/>
            <a:ext cx="22860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5105520" y="342900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Earth orbits around S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&gt;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Direction toward Sun chang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 flipV="1">
            <a:off x="5486400" y="2666520"/>
            <a:ext cx="7621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 flipV="1">
            <a:off x="5486400" y="2971800"/>
            <a:ext cx="106668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678168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29.53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>
            <a:off x="6553080" y="220968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8"/>
          <p:cNvSpPr/>
          <p:nvPr/>
        </p:nvSpPr>
        <p:spPr>
          <a:xfrm>
            <a:off x="6400800" y="2286000"/>
            <a:ext cx="1522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9"/>
          <p:cNvSpPr/>
          <p:nvPr/>
        </p:nvSpPr>
        <p:spPr>
          <a:xfrm>
            <a:off x="6705720" y="2438280"/>
            <a:ext cx="7596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0"/>
          <p:cNvSpPr/>
          <p:nvPr/>
        </p:nvSpPr>
        <p:spPr>
          <a:xfrm>
            <a:off x="6477120" y="2590920"/>
            <a:ext cx="30456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1"/>
          <p:cNvSpPr/>
          <p:nvPr/>
        </p:nvSpPr>
        <p:spPr>
          <a:xfrm>
            <a:off x="6553080" y="2438280"/>
            <a:ext cx="76320" cy="763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2" descr="seedsmoon028"/>
          <p:cNvPicPr/>
          <p:nvPr/>
        </p:nvPicPr>
        <p:blipFill>
          <a:blip r:embed="rId1"/>
          <a:stretch/>
        </p:blipFill>
        <p:spPr>
          <a:xfrm>
            <a:off x="152280" y="2133720"/>
            <a:ext cx="5029200" cy="4484520"/>
          </a:xfrm>
          <a:prstGeom prst="rect">
            <a:avLst/>
          </a:prstGeom>
          <a:ln w="0">
            <a:noFill/>
          </a:ln>
        </p:spPr>
      </p:pic>
      <p:sp>
        <p:nvSpPr>
          <p:cNvPr id="99" name="Line 23"/>
          <p:cNvSpPr/>
          <p:nvPr/>
        </p:nvSpPr>
        <p:spPr>
          <a:xfrm flipH="1">
            <a:off x="533160" y="2743200"/>
            <a:ext cx="3733560" cy="3048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ижний колонтитул 2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0.00162 C 0.02101 0.07469 0.0882 0.10659 0.1474 0.0726 C 0.20695 0.03885 0.23611 -0.04809 0.2125 -0.12115 C 0.18889 -0.19422 0.1217 -0.22635 0.06233 -0.19283 C 0.00295 -0.15861 -0.02639 -0.07167 -0.00295 0.00162 Z">
                                      <p:cBhvr>
                                        <p:cTn id="73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526E-006 C 0.00278 0.00925 0.00573 0.01896 0.00886 0.02567 C 0.01163 0.0326 0.01511 0.03677 0.01771 0.04047 C 0.02014 0.04417 0.02309 0.04648 0.02431 0.0481 E">
                                      <p:cBhvr>
                                        <p:cTn id="76" dur="3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e moon orbits counterclockwise around Earth (viewed from the North). </a:t>
            </a:r>
            <a:br>
              <a:rPr sz="3600"/>
            </a:b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=&gt; It appears to move eastward against the background of the stars. </a:t>
            </a:r>
            <a:br>
              <a:rPr sz="3600"/>
            </a:b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=&gt; The waxing crescent is vi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040" y="358128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morning s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evening s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whole night, from sunset to sunr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nly around mid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he 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seedsmoon027"/>
          <p:cNvPicPr/>
          <p:nvPr/>
        </p:nvPicPr>
        <p:blipFill>
          <a:blip r:embed="rId1"/>
          <a:stretch/>
        </p:blipFill>
        <p:spPr>
          <a:xfrm>
            <a:off x="304920" y="1938240"/>
            <a:ext cx="8686800" cy="46148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1600200" y="137160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New Moon → First Quarter → Full M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vening 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he 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seedsmoon030"/>
          <p:cNvPicPr/>
          <p:nvPr/>
        </p:nvPicPr>
        <p:blipFill>
          <a:blip r:embed="rId1"/>
          <a:stretch/>
        </p:blipFill>
        <p:spPr>
          <a:xfrm>
            <a:off x="228600" y="1738440"/>
            <a:ext cx="8763120" cy="4662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600200" y="12952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ull Moon → Third Quarter → New M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orning 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 rot="1275000">
            <a:off x="6019560" y="3352680"/>
            <a:ext cx="685800" cy="304920"/>
          </a:xfrm>
          <a:prstGeom prst="rect">
            <a:avLst/>
          </a:prstGeom>
          <a:solidFill>
            <a:srgbClr val="00003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 rot="1209000">
            <a:off x="5790960" y="3352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he T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02a"/>
          <p:cNvPicPr/>
          <p:nvPr/>
        </p:nvPicPr>
        <p:blipFill>
          <a:blip r:embed="rId1"/>
          <a:stretch/>
        </p:blipFill>
        <p:spPr>
          <a:xfrm>
            <a:off x="152280" y="1600200"/>
            <a:ext cx="5562720" cy="2346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02b"/>
          <p:cNvPicPr/>
          <p:nvPr/>
        </p:nvPicPr>
        <p:blipFill>
          <a:blip r:embed="rId2"/>
          <a:stretch/>
        </p:blipFill>
        <p:spPr>
          <a:xfrm>
            <a:off x="152280" y="4191120"/>
            <a:ext cx="5562720" cy="2355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791320" y="1371600"/>
            <a:ext cx="3124080" cy="52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The tides are caused by th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differen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of the Moon’s gravitational attraction on the water on Ea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Between th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ear side and the center of the Ea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Between the center and the far side of the Ea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2 tidal max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12-hou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4:56:31Z</dcterms:created>
  <dc:creator>Markus Boettcher</dc:creator>
  <dc:description/>
  <dc:language>en-US</dc:language>
  <cp:lastModifiedBy>LEGION</cp:lastModifiedBy>
  <dcterms:modified xsi:type="dcterms:W3CDTF">2018-03-22T10:37:57Z</dcterms:modified>
  <cp:revision>227</cp:revision>
  <dc:subject/>
  <dc:title>The Cycles of the Moon</dc:title>
</cp:coreProperties>
</file>